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572-7A6C-452A-A39D-8FC2DA89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04F-2CA9-4B23-A992-721B574D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5E7-2A5B-4706-95C7-8ACFD5F8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7B6-2FDC-494C-A31F-7224FEA5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667-D8B3-40F9-BF8E-6C0EE03C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58A-C703-4033-A823-2CEAE3F5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75E-1EBF-47B5-B60E-16A59A55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3F4-A59A-45AA-8E9B-0DA3C967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B65-0B08-4C50-B8D3-8F0FE584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38B-0575-419D-8F97-602CF4D3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66E-81A1-413C-87D1-B93BA32C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C00-6AF3-4A7E-895E-F9D10B35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EE66-DA11-49E8-B5CA-2BE7C4400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7701" t="39459" r="3844" b="33906"/>
          <a:stretch/>
        </p:blipFill>
        <p:spPr>
          <a:xfrm>
            <a:off x="152280" y="5181480"/>
            <a:ext cx="8991720" cy="1495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752480" y="1143000"/>
            <a:ext cx="548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497d"/>
                </a:solidFill>
                <a:latin typeface="Calibri"/>
              </a:rPr>
              <a:t>What Can We Learn From Notic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ere are Your Learner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which domain were your learners closest to the targe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NOW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LIEV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LONGING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76160" y="2057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ink/Write/Pair/Sh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at do you think you did as a teacher in the Powerful Lesson (or in general) to help learners get close to the target in that area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ere are Your Learner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which domain were your learners farthest from the targe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NOW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LIEV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LONGING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824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ing Student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 back to the student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oose a domain in which your students were not as close to the target as you hoped or expecte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oking at the responses to the question or prompt in that dom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ecting Student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will now select 3 pieces of student work from your collec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 that is CLOSE to the targ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 that is FAR from the targ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 that is in the MIDD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3352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l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dicates the learner answered the question and demonstrates evidence of hitting or coming quite close to the noticing target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idd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dicates the learner partially answered the question and is making progress toward the noticing targ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cates the learner has not really answered the question and is making little or no progress toward the noticing tar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highlighter you got when you checked in, make a </a:t>
            </a: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GRE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ark on the close piece of work, make a 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YELL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ark on the middle piece of work, and make a </a:t>
            </a: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PIN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ark on the far piece of work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Using the worksheet, jot down some reasons you thought the pieces you chose belonged in each of those categorie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671400" y="2057400"/>
            <a:ext cx="351972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ticing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195360" cy="3429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990720" y="1905120"/>
            <a:ext cx="3047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ink about your noticing tool, prompts and student respon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rite (then Shar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re the responses what you expected? In what ways did they meet or not meet your expecta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as a difference you saw between the first and second noticing (if you’ve done 2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ur Hope: Growth for Al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905120" y="1440000"/>
            <a:ext cx="5029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n Berger: An Ethic of Excell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uld you possibly achieve of quality in a single draf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you ever put on a play without rehearsals? Give a concert without practicing fir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9480" y="1996920"/>
            <a:ext cx="38703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re are Learners in their Journey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86000" y="1728720"/>
            <a:ext cx="48006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ving Closer to the Tar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616200" cy="2438280"/>
          </a:xfrm>
          <a:prstGeom prst="rect">
            <a:avLst/>
          </a:prstGeom>
          <a:ln w="0">
            <a:noFill/>
          </a:ln>
        </p:spPr>
      </p:pic>
      <p:sp>
        <p:nvSpPr>
          <p:cNvPr id="57" name="Bent-Up Arrow 18"/>
          <p:cNvSpPr/>
          <p:nvPr/>
        </p:nvSpPr>
        <p:spPr>
          <a:xfrm rot="5785800">
            <a:off x="3596400" y="3332880"/>
            <a:ext cx="453960" cy="2782800"/>
          </a:xfrm>
          <a:custGeom>
            <a:avLst/>
            <a:gdLst>
              <a:gd name="textAreaLeft" fmla="*/ 0 w 453960"/>
              <a:gd name="textAreaRight" fmla="*/ 397440 w 453960"/>
              <a:gd name="textAreaTop" fmla="*/ 2669760 h 2782800"/>
              <a:gd name="textAreaBottom" fmla="*/ 2783160 h 2782800"/>
            </a:gdLst>
            <a:ahLst/>
            <a:rect l="textAreaLeft" t="textAreaTop" r="textAreaRight" b="textAreaBottom"/>
            <a:pathLst>
              <a:path w="453097" h="2783492">
                <a:moveTo>
                  <a:pt x="0" y="2670218"/>
                </a:moveTo>
                <a:lnTo>
                  <a:pt x="283186" y="2670218"/>
                </a:lnTo>
                <a:lnTo>
                  <a:pt x="283186" y="113274"/>
                </a:lnTo>
                <a:lnTo>
                  <a:pt x="226549" y="113274"/>
                </a:lnTo>
                <a:lnTo>
                  <a:pt x="339823" y="0"/>
                </a:lnTo>
                <a:lnTo>
                  <a:pt x="453097" y="113274"/>
                </a:lnTo>
                <a:lnTo>
                  <a:pt x="396460" y="113274"/>
                </a:lnTo>
                <a:lnTo>
                  <a:pt x="396460" y="2783492"/>
                </a:lnTo>
                <a:lnTo>
                  <a:pt x="0" y="278349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10666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22"/>
          <p:cNvSpPr/>
          <p:nvPr/>
        </p:nvSpPr>
        <p:spPr>
          <a:xfrm>
            <a:off x="5029200" y="2438280"/>
            <a:ext cx="3733920" cy="358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PLAN NEXT POWERFUL LEARN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sider All Learning Dom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0" descr="KDBB.jpg"/>
          <p:cNvPicPr/>
          <p:nvPr/>
        </p:nvPicPr>
        <p:blipFill>
          <a:blip r:embed="rId1"/>
          <a:stretch/>
        </p:blipFill>
        <p:spPr>
          <a:xfrm>
            <a:off x="2133720" y="1706400"/>
            <a:ext cx="502920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:\Program Files\Microsoft Office\MEDIA\CAGCAT10\j0293844.wmf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5288040"/>
          </a:xfrm>
          <a:prstGeom prst="rect">
            <a:avLst/>
          </a:prstGeom>
          <a:ln w="0">
            <a:noFill/>
          </a:ln>
        </p:spPr>
      </p:pic>
      <p:sp>
        <p:nvSpPr>
          <p:cNvPr id="64" name="Right Arrow 7"/>
          <p:cNvSpPr/>
          <p:nvPr/>
        </p:nvSpPr>
        <p:spPr>
          <a:xfrm rot="1621200">
            <a:off x="82080" y="1474920"/>
            <a:ext cx="4051440" cy="101124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8"/>
          <p:cNvSpPr/>
          <p:nvPr/>
        </p:nvSpPr>
        <p:spPr>
          <a:xfrm rot="21084600">
            <a:off x="286920" y="4425480"/>
            <a:ext cx="3846600" cy="1049400"/>
          </a:xfrm>
          <a:prstGeom prst="rightArrow">
            <a:avLst>
              <a:gd name="adj1" fmla="val 50000"/>
              <a:gd name="adj2" fmla="val 49943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9"/>
          <p:cNvSpPr/>
          <p:nvPr/>
        </p:nvSpPr>
        <p:spPr>
          <a:xfrm rot="19362600">
            <a:off x="3809880" y="5562720"/>
            <a:ext cx="4572000" cy="10666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4:23:38Z</dcterms:created>
  <dc:creator> </dc:creator>
  <dc:description/>
  <dc:language>en-US</dc:language>
  <cp:lastModifiedBy>Rabbi K</cp:lastModifiedBy>
  <dcterms:modified xsi:type="dcterms:W3CDTF">2010-03-14T12:59:36Z</dcterms:modified>
  <cp:revision>15</cp:revision>
  <dc:subject/>
  <dc:title>Slide 1</dc:title>
</cp:coreProperties>
</file>